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054-A86F-47CC-BF06-DA0EAD4A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27E-D723-4AF4-851B-AB166FA9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F1F-23AE-4A76-A64C-F3D08E50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413-9772-4F9D-A550-128F0C86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413-6516-4FFD-B9FE-3901E237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78A-DB38-442D-ADC0-414BEECB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EA4-C242-40CA-9934-0974495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306-8BF9-4C10-A158-FC9F564E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F1A-F149-40E4-904C-AE8FF6BC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8C8-C123-45E6-B3D4-E1CDFEC0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DB1-49C8-4F41-AD20-3800F6E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7DF-8881-46B6-B47D-47628CA3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F45F-DD1A-4BFB-946E-F9B8C5F4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447920"/>
            <a:ext cx="71625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leopa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leopardo è in genere un animale solitario  e trascorre  la giornata a oziare in una tana nella roccia o su un albero all’interno del proprio territorio. Scalatore potente ed esperto, si nasconde spesso sui rami più alti  dove il suo manto sembra svanire fra le ombre. L’estensione del suo territorio varia a seconda della disponibilità di cibo, ma in media copre una zona di 25 km2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8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i comparire gli elementi delle due diapositive con due differenti anima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eopardo" descr=""/>
          <p:cNvPicPr/>
          <p:nvPr/>
        </p:nvPicPr>
        <p:blipFill>
          <a:blip r:embed="rId1"/>
          <a:stretch/>
        </p:blipFill>
        <p:spPr>
          <a:xfrm>
            <a:off x="1523880" y="1630440"/>
            <a:ext cx="61722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7:09:20Z</dcterms:created>
  <dc:creator>RCS Libri</dc:creator>
  <dc:description/>
  <dc:language>en-US</dc:language>
  <cp:lastModifiedBy>RCS Libri</cp:lastModifiedBy>
  <dcterms:modified xsi:type="dcterms:W3CDTF">2004-01-09T17:09:27Z</dcterms:modified>
  <cp:revision>1</cp:revision>
  <dc:subject/>
  <dc:title>Presentazione di PowerPoint</dc:title>
</cp:coreProperties>
</file>