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E94-A056-43E8-8895-65411F33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88E-FBA0-40FD-B2D2-288072CF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B2E-7029-4633-AE2E-32065FBE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1D0-0AC1-4920-9D7A-02A02BB4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965-FB61-45AF-937B-791B0228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C08-CA78-4D4D-B3E8-BE24EFA5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3EF-E450-4DCB-BE65-74A7F5D8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0E2-EEAD-4057-9EE9-CE3390C7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CA5-C422-481A-B785-4DF10309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0CA-F076-46BB-9DFA-584E315C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541-FB23-45F4-B474-9A49750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B9C-844D-4395-BE8E-06B4B35A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48AA-BA24-475B-9F95-45556D7B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Realizza una mappa concettuale sul regno delle pi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9:31Z</dcterms:created>
  <dc:creator>RCS Libri</dc:creator>
  <dc:description/>
  <dc:language>en-US</dc:language>
  <cp:lastModifiedBy>RCS Libri</cp:lastModifiedBy>
  <dcterms:modified xsi:type="dcterms:W3CDTF">2004-01-09T17:04:28Z</dcterms:modified>
  <cp:revision>2</cp:revision>
  <dc:subject/>
  <dc:title>Realizza una mappa concettuale sul regno delle piante.</dc:title>
</cp:coreProperties>
</file>