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A4A0-A954-4464-85E8-AC5BE8032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9AD4-A980-4C6A-B6CC-2922461C6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F79B-A4CA-4EAE-B18A-E5EBD2109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36FF-C2AD-423E-81AD-97187A007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708F-A2AC-4945-907B-55889AA4F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D1D8-15AC-4009-96A8-CE0EA2A3E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BFC1-0619-4C3E-8806-BAC9D01A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9C87-3B84-466A-93B8-476C49173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604B-FC28-41A4-AE1A-2C4E028C5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CB83-7A8A-41C4-9528-EAB915C8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B51D-9E32-46DE-A941-E5C91196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DBDC-6589-4C0C-BC63-BB6A8449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916BE-0155-409D-8F12-1043469845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Verdana"/>
              </a:rPr>
              <a:t>Inserisci in questa diapositiva il testo del file leopardo.doc e l’immagine </a:t>
            </a:r>
            <a:r>
              <a:rPr b="0" lang="it-IT" sz="2400" spc="-1" strike="noStrike">
                <a:solidFill>
                  <a:srgbClr val="00cc99"/>
                </a:solidFill>
                <a:latin typeface="Verdana"/>
              </a:rPr>
              <a:t>leopardo.jpg</a:t>
            </a:r>
            <a:r>
              <a:rPr b="0" lang="it-IT" sz="2400" spc="-1" strike="noStrike">
                <a:solidFill>
                  <a:srgbClr val="3333cc"/>
                </a:solidFill>
                <a:latin typeface="Verdana"/>
              </a:rPr>
              <a:t> che trovi nella cartella </a:t>
            </a:r>
            <a:r>
              <a:rPr b="0" lang="it-IT" sz="2400" spc="-1" strike="noStrike">
                <a:solidFill>
                  <a:srgbClr val="00cc99"/>
                </a:solidFill>
                <a:latin typeface="Verdana"/>
              </a:rPr>
              <a:t>attivita/powerpoint</a:t>
            </a:r>
            <a:r>
              <a:rPr b="0" lang="it-IT" sz="2400" spc="-1" strike="noStrike">
                <a:solidFill>
                  <a:srgbClr val="3333cc"/>
                </a:solidFill>
                <a:latin typeface="Verdana"/>
              </a:rPr>
              <a:t> del CD-R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9T17:03:32Z</dcterms:created>
  <dc:creator>RCS Libri</dc:creator>
  <dc:description/>
  <dc:language>en-US</dc:language>
  <cp:lastModifiedBy>RCS Libri</cp:lastModifiedBy>
  <dcterms:modified xsi:type="dcterms:W3CDTF">2004-01-19T09:35:32Z</dcterms:modified>
  <cp:revision>3</cp:revision>
  <dc:subject/>
  <dc:title>Inserisci in quesat diapositiva il testo del file leopardo.doc e l’immagine leopardo.jpg che trovi nella cartella attivita/powerpoint del CD-ROM</dc:title>
</cp:coreProperties>
</file>